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reenbusinesstimes.com/2008/08/14/asias-largest-solar-power-plant-in-south-korea/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k-energy-saving.com/solar_energy.html" TargetMode="External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futureschannel.com/dockets/science_technology/making_sparks/" TargetMode="External"/><Relationship Id="rId3" Type="http://schemas.openxmlformats.org/officeDocument/2006/relationships/hyperlink" Target="http://www.youtube.com/watch?v=YtPYgBNvYY4" TargetMode="External"/><Relationship Id="rId4" Type="http://schemas.openxmlformats.org/officeDocument/2006/relationships/hyperlink" Target="http://www.youtube.com/watch?v=kLSARSw2JUQ" TargetMode="External"/><Relationship Id="rId5" Type="http://schemas.openxmlformats.org/officeDocument/2006/relationships/hyperlink" Target="http://www.thefutureschannel.com/dockets/realworld/space_based_solar_power/" TargetMode="External"/><Relationship Id="rId6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reenbusinesstimes.com/wp-content/uploads/2008/08/conergy-korea.jpg" TargetMode="External"/><Relationship Id="rId3" Type="http://schemas.openxmlformats.org/officeDocument/2006/relationships/hyperlink" Target="http://www.treehugger.com/ct-solar-lease-080818.jpg" TargetMode="External"/><Relationship Id="rId4" Type="http://schemas.openxmlformats.org/officeDocument/2006/relationships/hyperlink" Target="http://ecoworldly.com/files/2008/03/solar-panels-gangneung.jpg" TargetMode="External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12600" y="-12600"/>
            <a:ext cx="13080960" cy="875016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2440" y="1663560"/>
            <a:ext cx="1174752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Lighting Up the Future: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(Photovoltaic)Solar Power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69720" y="558792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By Isaac Ha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1473480" y="109188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Domestic Us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-88920" y="3669840"/>
            <a:ext cx="11963520" cy="6210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olar panels for rooftops have recently gained popularity for a variety of reason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2226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ising fossil fuel costs have raised energy cost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222640" indent="-5716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cientific and industrial advances have made it more afforda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222640" indent="-5716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ising concern about pollution and the desire to “go green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7594560" y="1562040"/>
            <a:ext cx="50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85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In Korea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91960" y="2019240"/>
            <a:ext cx="66168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age of solar power rising due to government incentives and rooftop panels are a common sigh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ia’s largest solar power plant is in Korea. </a:t>
            </a:r>
            <a:br>
              <a:rPr sz="4200"/>
            </a:b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greenbusinesstimes.com/2008/08/14/asias-largest-solar-power-plant-in-south-korea/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7340760" y="4280040"/>
            <a:ext cx="5079960" cy="340344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4"/>
          <a:stretch/>
        </p:blipFill>
        <p:spPr>
          <a:xfrm>
            <a:off x="7340760" y="1549440"/>
            <a:ext cx="50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easibilit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 production costs decrease and efficiency increases, the feasibility of using solar power as a main source of energy increases every year. (See image on next slid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olar power could potentially power the entire worl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139680" y="757080"/>
            <a:ext cx="12725280" cy="77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-3816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ast Fact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269720" y="2209680"/>
            <a:ext cx="1046484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81920" indent="-502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nough sunlight falls on the earth to meet the energy needs of the entire planet for a year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1920" indent="-502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vering a small fraction of the Saharan desert with photovoltaic cells would be more than enough to generate the entire world’s energy need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1920" indent="-502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verything we’ve put in space is powered by photovoltaic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1920" indent="-502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uk-energy-saving.com/solar_energy.html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Interesting Video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ideos on solar power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ea typeface="ヒラギノ角ゴ ProN W3"/>
                <a:hlinkClick r:id="rId2"/>
              </a:rPr>
              <a:t>http://www.thefutureschannel.com/dockets/science_technology/making_sparks/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ea typeface="ヒラギノ角ゴ ProN W3"/>
                <a:hlinkClick r:id="rId3"/>
              </a:rPr>
              <a:t>http://www.youtube.com/watch?v=YtPYgBNvYY4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ea typeface="ヒラギノ角ゴ ProN W3"/>
                <a:hlinkClick r:id="rId4"/>
              </a:rPr>
              <a:t>http://www.youtube.com/watch?v=kLSARSw2JUQ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ideo on space-based solar power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ea typeface="ヒラギノ角ゴ ProN W3"/>
                <a:hlinkClick r:id="rId5"/>
              </a:rPr>
              <a:t>http://www.thefutureschannel.com/dockets/realworld/space_based_solar_power/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Bibliograph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greenbusinesstimes.com/wp-content/uploads/2008/08/conergy-korea.jp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http://www.treehugger.com/ct-solar-lease-080818.jp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ecoworldly.com/files/2008/03/solar-panels-gangneung.jp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ill Sans"/>
              </a:rPr>
              <a:t>http://z.about.com/d/physics/1/0/C/0/-/-/Einstein_tongue.jp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st of Images from Wikipedi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fo taken primarily from Wikipedi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Overview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82760" y="1955880"/>
            <a:ext cx="1202688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hotovoltaic solar power is a form of clean, renewable energy that creates no pollutants at all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base of the technology relies on the photovoltaic cell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ing solar power as a main source of energy is becoming increasingly feasible as every year production costs go down and efficiency goes up due to scientific and industrial advance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istory of Concep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30400" y="2311200"/>
            <a:ext cx="6743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concept of solar power was founded on the principles of the photovoltaic effect, organized by the world-renowned Albert Einstein using original and existing research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8585280" y="2832120"/>
            <a:ext cx="310032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hotovoltaic Effec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68324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photovoltaic effect is rather simple: It’s the effect of electron emission by certain materials when subject to radiation. Some materials emit electrons when exposed to radiation in sunligh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7759800" y="3132000"/>
            <a:ext cx="4965480" cy="35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Development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23960" y="2349000"/>
            <a:ext cx="6261120" cy="6248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ntinued research into photovoltaics has led to the development of the modern photovoltaic cell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asts around 10-20 years without significant decrease in efficiency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7289640" y="2830680"/>
            <a:ext cx="5083200" cy="45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 Photovoltaic Cell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4720" y="2590560"/>
            <a:ext cx="496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81920" indent="-502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The modern photovoltaic cell is constructed of earth minerals and metals.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  <a:p>
            <a:pPr marL="781920" indent="-502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The exact workings of the photoelectric cell is complex scientific magic, too difficult to explain fully in this powerpoint.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5443560" y="2449440"/>
            <a:ext cx="7315200" cy="548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42640" y="253800"/>
            <a:ext cx="10706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dvantages / Limitation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76240" y="2120400"/>
            <a:ext cx="5029200" cy="636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dvantage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es not pollu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asy to set up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ura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n be used almost anywhe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>
            <a:off x="6095880" y="2324160"/>
            <a:ext cx="598176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imitation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Usage limited by amount of exposure to sunligh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an be more expensive than conventional mea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-241560" y="-16524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Usag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35040" y="1841040"/>
            <a:ext cx="5905440" cy="666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urrently used in a wide range of different applications ranging from household items such as calculators, to household generators, to large scale solar power plant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10058400" y="291960"/>
            <a:ext cx="2705040" cy="42706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6654960" y="2870280"/>
            <a:ext cx="4927320" cy="33274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7899480" y="50767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-11448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Large Scale Opera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91880" y="7869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urrent large-scale solar power plants are located in deserts, where the sun shines the maximum amount per year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584280" y="5054760"/>
            <a:ext cx="5765760" cy="28828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6858000" y="48229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